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DC0-4A44-4A42-A04B-2052B00D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4C8-46BD-4637-95E0-09A229E8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C5D-7DFE-413E-B11A-E79BDC1B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374-D728-4724-8F1E-BECCDEF5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349-6A60-43F2-8832-FC810BCD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6D6-EA33-4037-B3D9-C3256244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21B-666D-4F44-A313-42BFB89A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49F-67F2-4311-B06A-908D01CD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9DD-B67A-4D21-98A8-9BF62CEC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156-1836-4FAB-8352-156D7291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894-B96B-4C0D-B3C1-F3F55B4E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FB9-A134-4029-AA6A-BE32DE94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8BAA-D8D9-4BE5-96BE-4DD51F192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9 Vie Pán, čo pre mň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bré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Pán, čo pre mňa dobré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šetko múdro riad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a s láskou poved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dbám na jeho ra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mocný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z hrobu b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život môj raz zhas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východisko spás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Pán, čo pre mňa dobré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sklamal on nikd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Slovo jeho pravda j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hojí všetky kriv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on je môj, už nepok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 srdca nenaru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každú búrku stíš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Pán, čo pre mňa dobré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ie o mojom žia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ieru moju podopr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rak mi slza ska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a bôľ môj dá balzam svo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kol sa čo chce de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ňa jeho láska hre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Pán, čo pre mňa dobré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nevzpieram sa tomu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Otec lepšie rozum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kedy dať a kom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ž čierny mrak mô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trie zra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ť, hrob ma nepredes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lávne raz ma vzkries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7T15:25:27Z</dcterms:modified>
  <cp:revision>21</cp:revision>
  <dc:subject/>
  <dc:title>Je veľký náš Pán, on slávy je Kráľ Nech do všetkých strán  spev vrúcnych znie chvál.</dc:title>
</cp:coreProperties>
</file>